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684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6840" y="875952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5017AF-8626-47EC-A7E9-2C13276D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D57715-25F3-4A57-B3F8-69BA99DD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1ED402-E931-4A44-A2F8-F539A0AC5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FFF5DB-5F26-4799-AA11-9E7CEA05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4BDF80-E89B-48A0-A7CC-78CDDA6F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504E89-F8DE-4A98-84D7-5A819C4C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9FCE9A-312C-4EAE-9990-ADB56B85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889980-C6D4-4024-8606-583D7987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926708-8A56-4221-BA59-148DB3A4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7200" y="875988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A7575-1AAA-406A-98C8-8DB3EC0F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DD8-72F0-4189-A0DD-224EFCFC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293-AA86-4811-B7FE-0545A132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594-6C5E-40A3-835D-5C4A96E0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B30-A92D-4AB1-A347-86312CA2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B82-2A17-428E-95E2-ACC40D0D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6C8-31EF-46B7-B233-B1C0C45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6460-B19C-496B-A235-C89014B3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DB51-34C0-4D3B-A89E-1278239B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81D9-C2C9-40E9-95C1-203635F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D701-04C6-4AB7-BFDB-14AA7234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DB1A-0308-4BC3-941B-E7752EE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DAB-B1D3-4BF3-B57E-90E6B05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0ED-D21D-43A1-B2B4-DE40802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04A0-D59E-4EFE-BAAA-E4A824D3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8A49-358B-4A70-9D46-C743051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F04-CC7D-4B62-86B4-A6B1E5AB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132C-64F7-4788-BE15-2B581472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BDB-07AC-4156-8AC7-5CE6A0E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17F-41F0-438D-A7A0-7A8F224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232-9B18-4DBE-A79D-41F58E9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EEC-64AF-4F9C-82B5-BE485011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AC9-E281-409D-838C-871F843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8E0-CD33-43EB-8926-D1152BE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52D-FB29-4EAA-8155-1C5BDAA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ata Retreat® is a registered service mark of CESA 7, W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DE1-53A8-48E2-838B-685CFB3172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43F-37C4-4DE7-ADD8-6C70C52D63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G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formati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thering 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tai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sul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…because everybody needs an assis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629400" y="525780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Berlin Sans FB"/>
              </a:rPr>
              <a:t>Kent IS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DFCA-DFE5-494E-A8A6-BCBF1874B0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E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1219320" y="3276720"/>
            <a:ext cx="198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MEAPGLCEPerformanceHistorySchool.png"/>
          <p:cNvPicPr/>
          <p:nvPr/>
        </p:nvPicPr>
        <p:blipFill>
          <a:blip r:embed="rId2"/>
          <a:stretch/>
        </p:blipFill>
        <p:spPr>
          <a:xfrm>
            <a:off x="887400" y="109440"/>
            <a:ext cx="7365960" cy="66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4567-E8D2-4924-9306-0AE54E6EDA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S:\Datawarehouse\Thumbnails\MEAPStatePercentCorrectComparisonSchool.png"/>
          <p:cNvPicPr/>
          <p:nvPr/>
        </p:nvPicPr>
        <p:blipFill>
          <a:blip r:embed="rId2"/>
          <a:stretch/>
        </p:blipFill>
        <p:spPr>
          <a:xfrm>
            <a:off x="411120" y="214200"/>
            <a:ext cx="8381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7F7-7625-46AA-A194-F088DC4B05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S:\Datawarehouse\Thumbnails\SecondaryProfilebyStudentSchool.png"/>
          <p:cNvPicPr/>
          <p:nvPr/>
        </p:nvPicPr>
        <p:blipFill>
          <a:blip r:embed="rId2"/>
          <a:stretch/>
        </p:blipFill>
        <p:spPr>
          <a:xfrm>
            <a:off x="109440" y="228600"/>
            <a:ext cx="89488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17D2-893D-4FC9-9982-DA10D70A4F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S:\Datawarehouse\Thumbnails\ELPAandMEAPComparisonDistrict.png"/>
          <p:cNvPicPr/>
          <p:nvPr/>
        </p:nvPicPr>
        <p:blipFill>
          <a:blip r:embed="rId2"/>
          <a:stretch/>
        </p:blipFill>
        <p:spPr>
          <a:xfrm>
            <a:off x="380880" y="165240"/>
            <a:ext cx="83822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5E79-C52C-444E-8493-0CC9287512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S:\Datawarehouse\Thumbnails\ELPAPerformanceLevelsMultiGradeSchool.png"/>
          <p:cNvPicPr/>
          <p:nvPr/>
        </p:nvPicPr>
        <p:blipFill>
          <a:blip r:embed="rId2"/>
          <a:stretch/>
        </p:blipFill>
        <p:spPr>
          <a:xfrm>
            <a:off x="387360" y="228600"/>
            <a:ext cx="830592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nt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conne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to clean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 to use por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plan district roll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esign &amp; develop reports with loca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 report use for Curriculum, Assessment &amp; I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security protoc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passw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istrict and building staff use the data to impact student achie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conne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data sets to inclu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ning data err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data in defined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data needs and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changes in local data systems &amp; data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user rights &amp; level of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data to impact student achie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572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Partnership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Roles &amp;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33520" y="1284120"/>
            <a:ext cx="8076960" cy="87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 Leadership: curriculum, technolog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format (time, location, size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schedule plan (LEA trainer-of-trainers, order of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role of district administrators, principals, SI team, etc. to encourage a data driven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esk (password reset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Agreements/Confidentiality Forms (OAISD staff als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ount creation/modification spreadshe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data sets (currently available vs. ne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WH si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pular Repor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ount 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gregated or not (to student level or n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ct, school &amp; classroom access default (Should principals have access to district data?  Should teachers have access to other classroom’s data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33520" y="1208160"/>
            <a:ext cx="807696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have data without information, but you cannot have information without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niel K. Mo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-360" y="25146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 Mie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en Fink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Mike R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 Boerko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h B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an Brumm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rick Cra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Mayna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 Rott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nna Rolff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Netherco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en Ru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16.301.61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80880" y="1143000"/>
            <a:ext cx="87631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GOR Managem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57200" y="2122560"/>
            <a:ext cx="807732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Collecting data is only the first step toward wisdom.  Sharing data is the first step toward community.”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Louis Gates, J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Effectiv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ces based on a cost recovery model…not for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implementation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sustainability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ong Track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 in place for over 6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ing with three additional IS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kegon Area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tcalm Area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tawa Area IS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4"/>
          <p:cNvSpPr/>
          <p:nvPr/>
        </p:nvSpPr>
        <p:spPr>
          <a:xfrm>
            <a:off x="2666880" y="3672000"/>
            <a:ext cx="152424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5"/>
          <p:cNvSpPr/>
          <p:nvPr/>
        </p:nvSpPr>
        <p:spPr>
          <a:xfrm>
            <a:off x="4821120" y="3657600"/>
            <a:ext cx="137160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_s1028"/>
          <p:cNvSpPr/>
          <p:nvPr/>
        </p:nvSpPr>
        <p:spPr>
          <a:xfrm>
            <a:off x="3505320" y="1905120"/>
            <a:ext cx="1714320" cy="1714320"/>
          </a:xfrm>
          <a:prstGeom prst="ellipse">
            <a:avLst/>
          </a:prstGeom>
          <a:solidFill>
            <a:srgbClr val="c0504d">
              <a:alpha val="30000"/>
            </a:srgbClr>
          </a:solidFill>
          <a:ln w="4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_s1030"/>
          <p:cNvSpPr/>
          <p:nvPr/>
        </p:nvSpPr>
        <p:spPr>
          <a:xfrm>
            <a:off x="4049640" y="2897280"/>
            <a:ext cx="1714680" cy="1714320"/>
          </a:xfrm>
          <a:prstGeom prst="ellipse">
            <a:avLst/>
          </a:prstGeom>
          <a:solidFill>
            <a:srgbClr val="0000ff">
              <a:alpha val="30000"/>
            </a:srgbClr>
          </a:solidFill>
          <a:ln w="4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_s1032"/>
          <p:cNvSpPr/>
          <p:nvPr/>
        </p:nvSpPr>
        <p:spPr>
          <a:xfrm>
            <a:off x="2895480" y="2895480"/>
            <a:ext cx="1714680" cy="1714680"/>
          </a:xfrm>
          <a:prstGeom prst="ellipse">
            <a:avLst/>
          </a:prstGeom>
          <a:solidFill>
            <a:srgbClr val="800080">
              <a:alpha val="30000"/>
            </a:srgbClr>
          </a:solidFill>
          <a:ln w="4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9"/>
          <p:cNvSpPr txBox="1"/>
          <p:nvPr/>
        </p:nvSpPr>
        <p:spPr>
          <a:xfrm rot="18206400">
            <a:off x="1847160" y="2334240"/>
            <a:ext cx="990360" cy="41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</a:rPr>
              <a:t>Process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radley Hand ITC"/>
              <a:ea typeface="Bradley Hand ITC"/>
            </a:endParaRPr>
          </a:p>
        </p:txBody>
      </p:sp>
      <p:sp>
        <p:nvSpPr>
          <p:cNvPr id="105" name="WordArt 50"/>
          <p:cNvSpPr txBox="1"/>
          <p:nvPr/>
        </p:nvSpPr>
        <p:spPr>
          <a:xfrm rot="2555400">
            <a:off x="4419360" y="1209600"/>
            <a:ext cx="1595160" cy="45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</a:rPr>
              <a:t>Demographic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radley Hand ITC"/>
              <a:ea typeface="Bradley Hand ITC"/>
            </a:endParaRPr>
          </a:p>
        </p:txBody>
      </p:sp>
      <p:sp>
        <p:nvSpPr>
          <p:cNvPr id="106" name="WordArt 51"/>
          <p:cNvSpPr txBox="1"/>
          <p:nvPr/>
        </p:nvSpPr>
        <p:spPr>
          <a:xfrm rot="19842000">
            <a:off x="2895120" y="1133280"/>
            <a:ext cx="1212840" cy="33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</a:rPr>
              <a:t>Outcome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radley Hand ITC"/>
              <a:ea typeface="Bradley Hand ITC"/>
            </a:endParaRPr>
          </a:p>
        </p:txBody>
      </p:sp>
      <p:grpSp>
        <p:nvGrpSpPr>
          <p:cNvPr id="107" name="Group 52"/>
          <p:cNvGrpSpPr/>
          <p:nvPr/>
        </p:nvGrpSpPr>
        <p:grpSpPr>
          <a:xfrm>
            <a:off x="1273320" y="3739320"/>
            <a:ext cx="3561840" cy="2466000"/>
            <a:chOff x="1273320" y="3739320"/>
            <a:chExt cx="3561840" cy="2466000"/>
          </a:xfrm>
        </p:grpSpPr>
        <p:sp>
          <p:nvSpPr>
            <p:cNvPr id="108" name="WordArt 53"/>
            <p:cNvSpPr txBox="1"/>
            <p:nvPr/>
          </p:nvSpPr>
          <p:spPr>
            <a:xfrm rot="10170000">
              <a:off x="3814920" y="5635080"/>
              <a:ext cx="990360" cy="41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Process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09" name="WordArt 54"/>
            <p:cNvSpPr txBox="1"/>
            <p:nvPr/>
          </p:nvSpPr>
          <p:spPr>
            <a:xfrm rot="16119000">
              <a:off x="720000" y="4315680"/>
              <a:ext cx="1595520" cy="452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Demographic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10" name="WordArt 55"/>
            <p:cNvSpPr txBox="1"/>
            <p:nvPr/>
          </p:nvSpPr>
          <p:spPr>
            <a:xfrm rot="11805600">
              <a:off x="2003040" y="5707080"/>
              <a:ext cx="1212840" cy="330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Outcome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</p:grpSp>
      <p:grpSp>
        <p:nvGrpSpPr>
          <p:cNvPr id="111" name="Group 56"/>
          <p:cNvGrpSpPr/>
          <p:nvPr/>
        </p:nvGrpSpPr>
        <p:grpSpPr>
          <a:xfrm>
            <a:off x="5987160" y="2093040"/>
            <a:ext cx="1736280" cy="4184640"/>
            <a:chOff x="5987160" y="2093040"/>
            <a:chExt cx="1736280" cy="4184640"/>
          </a:xfrm>
        </p:grpSpPr>
        <p:sp>
          <p:nvSpPr>
            <p:cNvPr id="112" name="WordArt 57"/>
            <p:cNvSpPr txBox="1"/>
            <p:nvPr/>
          </p:nvSpPr>
          <p:spPr>
            <a:xfrm rot="3056400">
              <a:off x="6104520" y="2400120"/>
              <a:ext cx="990360" cy="41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Process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13" name="WordArt 58"/>
            <p:cNvSpPr txBox="1"/>
            <p:nvPr/>
          </p:nvSpPr>
          <p:spPr>
            <a:xfrm rot="9005400">
              <a:off x="5993640" y="5457600"/>
              <a:ext cx="1595520" cy="452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Demographic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  <p:sp>
          <p:nvSpPr>
            <p:cNvPr id="114" name="WordArt 59"/>
            <p:cNvSpPr txBox="1"/>
            <p:nvPr/>
          </p:nvSpPr>
          <p:spPr>
            <a:xfrm rot="4692000">
              <a:off x="6831360" y="3924000"/>
              <a:ext cx="1212840" cy="330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c0c0c0">
                      <a:alpha val="30000"/>
                    </a:srgbClr>
                  </a:solidFill>
                  <a:latin typeface="Bradley Hand ITC"/>
                </a:rPr>
                <a:t>Outcome</a:t>
              </a:r>
              <a:endPara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radley Hand ITC"/>
                <a:ea typeface="Bradley Hand ITC"/>
              </a:endParaRPr>
            </a:p>
          </p:txBody>
        </p:sp>
      </p:grpSp>
      <p:sp>
        <p:nvSpPr>
          <p:cNvPr id="115" name="Text Box 60"/>
          <p:cNvSpPr/>
          <p:nvPr/>
        </p:nvSpPr>
        <p:spPr>
          <a:xfrm>
            <a:off x="3909960" y="2376360"/>
            <a:ext cx="1042920" cy="368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1"/>
          <p:cNvSpPr txBox="1"/>
          <p:nvPr/>
        </p:nvSpPr>
        <p:spPr>
          <a:xfrm>
            <a:off x="3429000" y="3048120"/>
            <a:ext cx="182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c0c0c0">
                    <a:alpha val="30000"/>
                  </a:srgbClr>
                </a:solidFill>
                <a:latin typeface="Bodoni MT Black"/>
              </a:rPr>
              <a:t>DATA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c0c0c0">
                  <a:alpha val="30000"/>
                </a:srgbClr>
              </a:solidFill>
              <a:latin typeface="Bodoni MT Black"/>
              <a:ea typeface="Bodoni MT Black"/>
            </a:endParaRPr>
          </a:p>
        </p:txBody>
      </p:sp>
      <p:sp>
        <p:nvSpPr>
          <p:cNvPr id="117" name="Freeform 62"/>
          <p:cNvSpPr/>
          <p:nvPr/>
        </p:nvSpPr>
        <p:spPr>
          <a:xfrm>
            <a:off x="2043000" y="1500120"/>
            <a:ext cx="4641840" cy="3700440"/>
          </a:xfrm>
          <a:custGeom>
            <a:avLst/>
            <a:gdLst>
              <a:gd name="textAreaLeft" fmla="*/ 0 w 4641840"/>
              <a:gd name="textAreaRight" fmla="*/ 4642200 w 4641840"/>
              <a:gd name="textAreaTop" fmla="*/ 0 h 3700440"/>
              <a:gd name="textAreaBottom" fmla="*/ 3700440 h 3700440"/>
            </a:gdLst>
            <a:ahLst/>
            <a:rect l="textAreaLeft" t="textAreaTop" r="textAreaRight" b="textAreaBottom"/>
            <a:pathLst>
              <a:path w="2923" h="2331">
                <a:moveTo>
                  <a:pt x="1557" y="7"/>
                </a:moveTo>
                <a:cubicBezTo>
                  <a:pt x="1672" y="14"/>
                  <a:pt x="1775" y="57"/>
                  <a:pt x="1860" y="116"/>
                </a:cubicBezTo>
                <a:cubicBezTo>
                  <a:pt x="1945" y="175"/>
                  <a:pt x="1995" y="227"/>
                  <a:pt x="2066" y="359"/>
                </a:cubicBezTo>
                <a:cubicBezTo>
                  <a:pt x="2137" y="491"/>
                  <a:pt x="2156" y="733"/>
                  <a:pt x="2284" y="910"/>
                </a:cubicBezTo>
                <a:cubicBezTo>
                  <a:pt x="2412" y="1087"/>
                  <a:pt x="2749" y="1229"/>
                  <a:pt x="2836" y="1420"/>
                </a:cubicBezTo>
                <a:cubicBezTo>
                  <a:pt x="2923" y="1611"/>
                  <a:pt x="2905" y="1913"/>
                  <a:pt x="2806" y="2056"/>
                </a:cubicBezTo>
                <a:cubicBezTo>
                  <a:pt x="2707" y="2199"/>
                  <a:pt x="2461" y="2287"/>
                  <a:pt x="2242" y="2275"/>
                </a:cubicBezTo>
                <a:cubicBezTo>
                  <a:pt x="2023" y="2263"/>
                  <a:pt x="1734" y="1977"/>
                  <a:pt x="1490" y="1984"/>
                </a:cubicBezTo>
                <a:cubicBezTo>
                  <a:pt x="1246" y="1991"/>
                  <a:pt x="992" y="2307"/>
                  <a:pt x="777" y="2319"/>
                </a:cubicBezTo>
                <a:cubicBezTo>
                  <a:pt x="562" y="2331"/>
                  <a:pt x="313" y="2193"/>
                  <a:pt x="198" y="2056"/>
                </a:cubicBezTo>
                <a:cubicBezTo>
                  <a:pt x="83" y="1919"/>
                  <a:pt x="0" y="1698"/>
                  <a:pt x="89" y="1498"/>
                </a:cubicBezTo>
                <a:cubicBezTo>
                  <a:pt x="178" y="1298"/>
                  <a:pt x="596" y="1048"/>
                  <a:pt x="732" y="856"/>
                </a:cubicBezTo>
                <a:cubicBezTo>
                  <a:pt x="868" y="664"/>
                  <a:pt x="835" y="476"/>
                  <a:pt x="908" y="346"/>
                </a:cubicBezTo>
                <a:cubicBezTo>
                  <a:pt x="981" y="216"/>
                  <a:pt x="1061" y="131"/>
                  <a:pt x="1169" y="74"/>
                </a:cubicBezTo>
                <a:cubicBezTo>
                  <a:pt x="1277" y="17"/>
                  <a:pt x="1442" y="0"/>
                  <a:pt x="1557" y="7"/>
                </a:cubicBez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04920" y="137160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students lear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How will we know students have learned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How will the school respond when students do not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How will the school respond when students d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68580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09480" y="1522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Islands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85760" y="3498840"/>
            <a:ext cx="1795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90480" y="2660760"/>
            <a:ext cx="2540160" cy="76176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1636560" y="1447920"/>
            <a:ext cx="2710440" cy="1163520"/>
            <a:chOff x="1636560" y="1447920"/>
            <a:chExt cx="2710440" cy="1163520"/>
          </a:xfrm>
        </p:grpSpPr>
        <p:sp>
          <p:nvSpPr>
            <p:cNvPr id="124" name="Rectangle 6"/>
            <p:cNvSpPr/>
            <p:nvPr/>
          </p:nvSpPr>
          <p:spPr>
            <a:xfrm>
              <a:off x="2336760" y="2248200"/>
              <a:ext cx="201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 Rec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3"/>
            <a:stretch/>
          </p:blipFill>
          <p:spPr>
            <a:xfrm>
              <a:off x="1636560" y="1447920"/>
              <a:ext cx="25387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8"/>
          <p:cNvSpPr/>
          <p:nvPr/>
        </p:nvSpPr>
        <p:spPr>
          <a:xfrm>
            <a:off x="4034160" y="3879720"/>
            <a:ext cx="21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nel/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3598920" y="3117960"/>
            <a:ext cx="2539800" cy="761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5802120" y="2203560"/>
            <a:ext cx="1743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5156280" y="1450800"/>
            <a:ext cx="25398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2"/>
          <p:cNvGrpSpPr/>
          <p:nvPr/>
        </p:nvGrpSpPr>
        <p:grpSpPr>
          <a:xfrm>
            <a:off x="6195960" y="2762280"/>
            <a:ext cx="3061440" cy="1210680"/>
            <a:chOff x="6195960" y="2762280"/>
            <a:chExt cx="3061440" cy="1210680"/>
          </a:xfrm>
        </p:grpSpPr>
        <p:sp>
          <p:nvSpPr>
            <p:cNvPr id="131" name="Rectangle 13"/>
            <p:cNvSpPr/>
            <p:nvPr/>
          </p:nvSpPr>
          <p:spPr>
            <a:xfrm>
              <a:off x="6761160" y="3609720"/>
              <a:ext cx="249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ancial Acc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14" descr=""/>
            <p:cNvPicPr/>
            <p:nvPr/>
          </p:nvPicPr>
          <p:blipFill>
            <a:blip r:embed="rId6"/>
            <a:stretch/>
          </p:blipFill>
          <p:spPr>
            <a:xfrm>
              <a:off x="6195960" y="2762280"/>
              <a:ext cx="25387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Rectangle 15"/>
          <p:cNvSpPr/>
          <p:nvPr/>
        </p:nvSpPr>
        <p:spPr>
          <a:xfrm>
            <a:off x="6862680" y="5099040"/>
            <a:ext cx="1705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6" descr=""/>
          <p:cNvPicPr/>
          <p:nvPr/>
        </p:nvPicPr>
        <p:blipFill>
          <a:blip r:embed="rId7"/>
          <a:stretch/>
        </p:blipFill>
        <p:spPr>
          <a:xfrm>
            <a:off x="6273720" y="4260960"/>
            <a:ext cx="254016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30120" y="4184640"/>
            <a:ext cx="2617560" cy="1486080"/>
            <a:chOff x="330120" y="4184640"/>
            <a:chExt cx="2617560" cy="1486080"/>
          </a:xfrm>
        </p:grpSpPr>
        <p:sp>
          <p:nvSpPr>
            <p:cNvPr id="136" name="Rectangle 18"/>
            <p:cNvSpPr/>
            <p:nvPr/>
          </p:nvSpPr>
          <p:spPr>
            <a:xfrm>
              <a:off x="353880" y="5033160"/>
              <a:ext cx="2593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orm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cument 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19" descr=""/>
            <p:cNvPicPr/>
            <p:nvPr/>
          </p:nvPicPr>
          <p:blipFill>
            <a:blip r:embed="rId8"/>
            <a:stretch/>
          </p:blipFill>
          <p:spPr>
            <a:xfrm>
              <a:off x="330120" y="4184640"/>
              <a:ext cx="254016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20"/>
          <p:cNvSpPr/>
          <p:nvPr/>
        </p:nvSpPr>
        <p:spPr>
          <a:xfrm>
            <a:off x="3452760" y="5556240"/>
            <a:ext cx="273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/Medi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"/>
          <p:cNvPicPr/>
          <p:nvPr/>
        </p:nvPicPr>
        <p:blipFill>
          <a:blip r:embed="rId9"/>
          <a:stretch/>
        </p:blipFill>
        <p:spPr>
          <a:xfrm>
            <a:off x="3149640" y="4718160"/>
            <a:ext cx="253980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9" descr="AN02328_"/>
          <p:cNvPicPr/>
          <p:nvPr/>
        </p:nvPicPr>
        <p:blipFill>
          <a:blip r:embed="rId10"/>
          <a:stretch/>
        </p:blipFill>
        <p:spPr>
          <a:xfrm>
            <a:off x="2743200" y="373392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0" descr="AN02328_"/>
          <p:cNvPicPr/>
          <p:nvPr/>
        </p:nvPicPr>
        <p:blipFill>
          <a:blip r:embed="rId11"/>
          <a:stretch/>
        </p:blipFill>
        <p:spPr>
          <a:xfrm>
            <a:off x="5334120" y="449568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1" descr="AN02328_"/>
          <p:cNvPicPr/>
          <p:nvPr/>
        </p:nvPicPr>
        <p:blipFill>
          <a:blip r:embed="rId12"/>
          <a:stretch/>
        </p:blipFill>
        <p:spPr>
          <a:xfrm>
            <a:off x="4191120" y="243828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2" descr="AN02328_"/>
          <p:cNvPicPr/>
          <p:nvPr/>
        </p:nvPicPr>
        <p:blipFill>
          <a:blip r:embed="rId13"/>
          <a:stretch/>
        </p:blipFill>
        <p:spPr>
          <a:xfrm>
            <a:off x="7924680" y="182880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3" descr="AN02328_"/>
          <p:cNvPicPr/>
          <p:nvPr/>
        </p:nvPicPr>
        <p:blipFill>
          <a:blip r:embed="rId14"/>
          <a:stretch/>
        </p:blipFill>
        <p:spPr>
          <a:xfrm>
            <a:off x="5715000" y="533412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4" descr="AN02328_"/>
          <p:cNvPicPr/>
          <p:nvPr/>
        </p:nvPicPr>
        <p:blipFill>
          <a:blip r:embed="rId15"/>
          <a:stretch/>
        </p:blipFill>
        <p:spPr>
          <a:xfrm>
            <a:off x="1905120" y="5715000"/>
            <a:ext cx="914400" cy="38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AN02328_"/>
          <p:cNvPicPr/>
          <p:nvPr/>
        </p:nvPicPr>
        <p:blipFill>
          <a:blip r:embed="rId16"/>
          <a:stretch/>
        </p:blipFill>
        <p:spPr>
          <a:xfrm>
            <a:off x="609480" y="1905120"/>
            <a:ext cx="914400" cy="3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6324480" y="3801960"/>
            <a:ext cx="1067040" cy="1440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5943600" y="3801960"/>
            <a:ext cx="0" cy="121932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V="1">
            <a:off x="5943600" y="2582640"/>
            <a:ext cx="14400" cy="10666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3124080" y="2278080"/>
            <a:ext cx="5040" cy="8460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3886200" y="3711600"/>
            <a:ext cx="1066680" cy="144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6794640" y="4129200"/>
            <a:ext cx="73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6013440" y="4646520"/>
            <a:ext cx="0" cy="735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 flipV="1">
            <a:off x="6008760" y="2403000"/>
            <a:ext cx="9360" cy="85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078000" y="2800440"/>
            <a:ext cx="0" cy="64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3827520" y="4132440"/>
            <a:ext cx="1155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4952880" y="3116160"/>
            <a:ext cx="2033640" cy="13017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4876920" y="3268800"/>
            <a:ext cx="215712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4641840" y="5006880"/>
            <a:ext cx="2589120" cy="93672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4767480" y="5070600"/>
            <a:ext cx="234108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quer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7"/>
          <p:cNvSpPr/>
          <p:nvPr/>
        </p:nvSpPr>
        <p:spPr>
          <a:xfrm>
            <a:off x="2062080" y="3090960"/>
            <a:ext cx="2586240" cy="148104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2133720" y="3228840"/>
            <a:ext cx="251460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extraction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nsing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2236680" y="1446120"/>
            <a:ext cx="1971720" cy="10065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2390400" y="1562040"/>
            <a:ext cx="169956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1"/>
          <p:cNvSpPr/>
          <p:nvPr/>
        </p:nvSpPr>
        <p:spPr>
          <a:xfrm>
            <a:off x="5018040" y="1744560"/>
            <a:ext cx="1838520" cy="83844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5240520" y="1785960"/>
            <a:ext cx="139320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1459080" y="2575080"/>
            <a:ext cx="610920" cy="5410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1424160" y="3273480"/>
            <a:ext cx="582480" cy="1332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V="1">
            <a:off x="1424160" y="3809880"/>
            <a:ext cx="633240" cy="13032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V="1">
            <a:off x="1366920" y="4195440"/>
            <a:ext cx="690480" cy="3762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1424160" y="4495680"/>
            <a:ext cx="709560" cy="64296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-1440" y="1066680"/>
            <a:ext cx="178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9"/>
          <p:cNvSpPr/>
          <p:nvPr/>
        </p:nvSpPr>
        <p:spPr>
          <a:xfrm>
            <a:off x="7415280" y="3341520"/>
            <a:ext cx="1485720" cy="925560"/>
          </a:xfrm>
          <a:prstGeom prst="roundRect">
            <a:avLst>
              <a:gd name="adj" fmla="val 12495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7639200" y="3403440"/>
            <a:ext cx="1155240" cy="80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4571640" y="2743200"/>
            <a:ext cx="8672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2"/>
          <p:cNvSpPr/>
          <p:nvPr/>
        </p:nvSpPr>
        <p:spPr>
          <a:xfrm>
            <a:off x="380880" y="5021280"/>
            <a:ext cx="973080" cy="54144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380880" y="440388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"/>
          <p:cNvSpPr/>
          <p:nvPr/>
        </p:nvSpPr>
        <p:spPr>
          <a:xfrm>
            <a:off x="380880" y="371808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5"/>
          <p:cNvSpPr/>
          <p:nvPr/>
        </p:nvSpPr>
        <p:spPr>
          <a:xfrm>
            <a:off x="380880" y="304020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380880" y="2354400"/>
            <a:ext cx="973080" cy="541080"/>
          </a:xfrm>
          <a:prstGeom prst="can">
            <a:avLst>
              <a:gd name="adj" fmla="val 25000"/>
            </a:avLst>
          </a:prstGeom>
          <a:solidFill>
            <a:srgbClr val="ff9933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4572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Data Warehouse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533520" y="990720"/>
            <a:ext cx="807696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ata warehouses in general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overall strategy, or process, for building decision support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primary objective of bringing together information from different sources and put information into a format that facilitates  making better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the ultimate goal to inform classroom practices and impact student achie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GOR can assist you to make better data-based decision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struc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students’ strengths &amp;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nalysis for curriculum, assessment &amp;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best practic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ily analyze data from multiple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he important stuff…improving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et accountability mandates (NCLB, Ed YES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efficiencies with tight fin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program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0666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-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 Language Proficiency Assessment (ELP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LPP 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(NW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raN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ntron Achievement Se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 Reading, Math, Early Lite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Record Student Database (SRS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lastic Reading Inventory (S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Styles Inventory (LS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owa Test of Basic Skills (ITB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es MacGinitie Rea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066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 WorkKe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 Expl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ford Achievement Test (SAT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ced Placement Program (A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District Stand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rse Gr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Management System (SMS) Student Schedule: Win School, PowerSchool, Infinite Campus, CIMS, SA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formation Database (FI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ary Sched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ry of Educational Personnel (RE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much more in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22860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Sets Available to Local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3520" y="990720"/>
            <a:ext cx="8076960" cy="871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bbcdd7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620120" y="6095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948440" y="65768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08.04.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7:37:13Z</dcterms:created>
  <dc:creator>jsargent</dc:creator>
  <dc:description/>
  <dc:language>en-US</dc:language>
  <cp:lastModifiedBy>EGR</cp:lastModifiedBy>
  <dcterms:modified xsi:type="dcterms:W3CDTF">2010-02-14T23:01:01Z</dcterms:modified>
  <cp:revision>287</cp:revision>
  <dc:subject/>
  <dc:title>IGOR Presentation1022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Resource Library</vt:lpwstr>
  </property>
  <property fmtid="{D5CDD505-2E9C-101B-9397-08002B2CF9AE}" pid="3" name="Dataset">
    <vt:lpwstr/>
  </property>
  <property fmtid="{D5CDD505-2E9C-101B-9397-08002B2CF9AE}" pid="4" name="Type of Resource">
    <vt:lpwstr>IGOR Resources</vt:lpwstr>
  </property>
</Properties>
</file>